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08E-C79F-4354-A017-4341EAB7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83D-25E9-4B9B-9247-66D0C4E5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009-1770-4FF7-A603-2145135A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DBA-35EB-4973-B20F-33CEDC0E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B760-DA26-4886-9414-E50DBF3B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A0FA-18C9-4869-A103-45003E76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ED86-AC4E-482F-813D-09E28891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73B-DEC7-407E-9DED-9521F133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3CB9-509E-414C-99F0-E8CAE00E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35DB-025C-423F-98FF-A0648A9F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5F4D-E49B-4B81-B23F-F8D60E59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B5B-3459-42B0-BABC-5795E048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9F55-9649-479F-A928-30D5DDE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431C-E741-4BB9-A57D-8CB67016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04B7-D642-4509-B330-CB1E04D6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EF0D-DB69-4B8F-B1D4-92292C65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5BB4-3143-4FC8-8AAA-71F4E3F2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2766-3506-4EC8-A53F-40C6D9D7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AAD0-DC65-43E2-9C49-263CC19A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DCF2-EEF0-4B36-9CBF-C5D7DECC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0B07-FBFA-4018-A3C8-9CE6D92C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7696-FE03-4C65-9E48-62503925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FF7-7B1F-4CA2-A63B-5D7DEF1F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C493-7573-41E9-9E62-DC94E728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09D8-DD55-488B-882E-B98AB588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463D-98A2-4C75-B295-DA22566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AE59-5A54-4706-AC9C-8B27B226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AAC7-2182-41B5-8CC3-6FD7BDD0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02A7-1E17-4DC8-8EF7-3BC38707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9379-81CA-46A8-AF60-5E9037E9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0D417-BB07-4C8B-ADDB-5F8506E3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E06C3-A404-4A13-B2B8-A49CB392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F609-6E1B-4C90-9729-4AA2540E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A71-13E7-4470-B07B-4E8C8D5D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E9C9-FDB5-490D-8820-B85AD97B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40967-531E-4BCB-AE23-41EA99DC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DCCE-E12E-4E98-877F-69D95B49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7500-9E4B-43B5-8966-3A86E936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3856-736D-4312-AF34-4E079C2B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B467-3DEC-4F9F-AFC7-D7B3CFE6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0309-8177-4935-B957-B3BAAE53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2566-1563-497C-94CA-F358C6F6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EA0D1-96DF-4BFE-8448-76F64A0E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344-75C5-46D5-86C0-38D6FD70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D3E-FEA2-4459-9F45-6BAFBB4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3D8-1FB8-4248-A10B-D73CF474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506-46B6-4182-B9A0-AC47F02F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B1F-D69B-45E0-9BF3-899726D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BF5E-C7B4-4BF6-A04C-53F5B34A8F0E}" type="slidenum"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Szabadkézi sokszög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Szabadkézi sokszög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A1B1-BD31-48D8-8630-33021415238A}" type="slidenum"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Szabadkézi sokszög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6690-8D1C-47B6-BFB4-7586E8238000}" type="slidenum"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gy sarkán kerekítve levágott téglalap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erékszögű háromszög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abadkézi sokszög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abadkézi sokszög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C515-DC40-47E3-8CAF-4732EF4A2E40}" type="slidenum"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ím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40564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nstantia"/>
              </a:rPr>
              <a:t>Juhász Jáno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nstantia"/>
              </a:rPr>
              <a:t>juhja@digitus.itk.ppke.h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nstantia"/>
              </a:rPr>
              <a:t>Hartdégen Márt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nstantia"/>
              </a:rPr>
              <a:t>hartdegenmarton@gmail.co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58D0-8FDB-4FFA-8252-73D8BC4D1B18}" type="datetime">
              <a:rPr b="0" lang="hu-HU" sz="1200" spc="-1" strike="noStrike">
                <a:solidFill>
                  <a:srgbClr val="d1eaee"/>
                </a:solidFill>
                <a:latin typeface="Constantia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orgalmi felad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dottak az alábbi rendszerek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eladat: Az egyenletek általános vizsgálata, implementálása Matlabban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143160" y="2428920"/>
            <a:ext cx="2629080" cy="2860560"/>
          </a:xfrm>
          <a:prstGeom prst="rect">
            <a:avLst/>
          </a:prstGeom>
          <a:ln w="0">
            <a:noFill/>
          </a:ln>
        </p:spPr>
      </p:pic>
      <p:sp>
        <p:nvSpPr>
          <p:cNvPr id="201" name="Szövegdoboz 5"/>
          <p:cNvSpPr/>
          <p:nvPr/>
        </p:nvSpPr>
        <p:spPr>
          <a:xfrm>
            <a:off x="642960" y="61437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j.: beadási határidő 2014.11.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Köszönjük a figyelmet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5T19:16:28Z</dcterms:created>
  <dc:creator>Hartdegen</dc:creator>
  <dc:description/>
  <dc:language>en-US</dc:language>
  <cp:lastModifiedBy>Hartdegen</cp:lastModifiedBy>
  <dcterms:modified xsi:type="dcterms:W3CDTF">2014-11-03T17:18:06Z</dcterms:modified>
  <cp:revision>230</cp:revision>
  <dc:subject/>
  <dc:title>Nemlineáris dinamikus rendszerek alapjai I. gyakorlat</dc:title>
</cp:coreProperties>
</file>